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EF10-F022-4680-9DA8-FF346D4C33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B70F-9334-4054-8E8F-F06B0D614A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6D68-E855-464F-8241-B6D807CA1B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33A-1EC4-4C66-A97D-E6BB64767C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D584-F7A0-49CB-A912-EB21D069A5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D733-D669-4812-BC1F-53C67CAA45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BC14-9210-4A78-97AA-B8A419343B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952D-6F86-4B86-AFDB-7FB05D9E85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D454-E721-4CB3-B99E-5E164F6D53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C94F-2FF5-44B9-8E13-AECDA5C494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C9B4-6BBC-4867-A2B3-3469C3EB5C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4F8F-8699-455F-ACCA-0DEB9FED4B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9D9A-4C73-4A9F-9DBB-A63EA3D89B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3CF5-AD28-410B-AD84-7A24C8E94E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C848-AC9D-4B30-B264-31AEE22B85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C5A8-F5C7-4EDA-B647-EBA63D04B9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A73B-096F-4A6C-BA1B-D31D87907C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9F5D-DAF1-4704-97EE-01DD6B20A1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CE28-2708-40C5-9E12-35FD435B14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7640-9293-48A6-AB91-4FF1621D96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3643-1D09-463F-9E53-23DB4A728B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E43C-04E3-43E3-AAD3-A2AEF89166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90DA-5162-411D-ACD8-DD9B668DDF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30C3-53E3-4EB6-912C-D3A470432D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A382-37DC-40CF-9A2B-BA5E1B126DA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F4D4-F810-4C2F-86F9-CAFCFA1B55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F335-F6DF-49F4-9543-F038B4FC43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F464-8C19-4836-A701-24F67BAA56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8701-4D8C-4403-A669-9557018162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DE8B-9CE5-47DD-A211-E543FB2387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D227-536D-4ABB-8453-21279E1B2F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A076-0BE5-4670-AFA1-9863CC6147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71EA-AE9C-44A8-9A7F-72256CFB96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F2BC-3747-42F2-BC57-943AE2A339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1A2D-940A-4092-B78B-69CE612D35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7F60-6A49-46FA-A6C6-BF9C5D6E1A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647E-01B1-4266-9733-67C70A0613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036-8757-4FA6-83CC-150E48B5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BC0-6B13-42F4-A47E-511A8C6C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416-2792-4A20-960B-72DBFC08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56C-78B7-426A-87BC-C68EB623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76F-74FE-4321-932B-9A22F4B7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CAA-7EAB-4812-9864-AEC2CC9C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9EF-140B-47A8-9093-ABC3100D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9F1-68FE-4D27-9DD4-9D725B96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F33-14AD-4DF5-8D76-C3920909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787-062E-4A5F-A567-7B7A8523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6BB-D40A-4D64-B971-841AC983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94C-7E59-4A52-8FFF-E9A02549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4040-FF0A-405D-B325-5B726574EDA0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心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l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음 속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嘛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355720"/>
            <a:ext cx="6381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어기조사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당연을 나타냄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b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보통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参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nji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참가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高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āok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355720"/>
            <a:ext cx="6381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중국의 대학 입학 시험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多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dàduōshù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대다수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省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ěngfè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성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省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험 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每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měiniá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하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처리하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728760"/>
            <a:ext cx="6264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shàngwǎng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인터넷을 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í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급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认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ènzhē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진지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明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míngniá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내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iǎoxué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초등학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初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ūzhō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학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当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āngrá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당연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好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ǎohāor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努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ǔl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력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랑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옮기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帮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bāngzhù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돕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重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òngyào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요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毕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ìy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졸업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u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입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쓰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끼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잃어버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访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fǎngwè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문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负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z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책임지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干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相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iāngxì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믿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ìj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신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기조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愿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àny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소비하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쓰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me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렇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5:55:50Z</dcterms:created>
  <dc:creator>System</dc:creator>
  <dc:description/>
  <dc:language>en-US</dc:language>
  <cp:lastModifiedBy>System</cp:lastModifiedBy>
  <dcterms:modified xsi:type="dcterms:W3CDTF">2014-01-28T04:12:05Z</dcterms:modified>
  <cp:revision>4</cp:revision>
  <dc:subject/>
  <dc:title>슬라이드 1</dc:title>
</cp:coreProperties>
</file>